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2.jpeg" ContentType="image/jpeg"/>
  <Override PartName="/ppt/media/image13.jpeg" ContentType="image/jpeg"/>
  <Override PartName="/ppt/media/image8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4.png" ContentType="image/png"/>
  <Override PartName="/ppt/media/image23.jpeg" ContentType="image/jpeg"/>
  <Override PartName="/ppt/media/image18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3.png" ContentType="image/png"/>
  <Override PartName="/ppt/media/image17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2756-6027-467B-A93E-FD9BBE425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C5A1-2222-47DD-B567-804B54712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B63960-D313-476A-B988-BA3304DFB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4437E3-177B-4574-80AD-7C5B17B19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6350C2-6286-46E6-AE8E-2154CBA63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D95AF0-7755-4224-8986-96CC36A25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722182-AD1C-4FA2-9F06-AF7C81861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5650FB-E3BF-45C2-88BC-A90208BD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00DC16-3EAE-4DAE-9024-FAC3304E6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B7FDF3-F145-4AC2-8BF7-7529A7526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D73E67-482D-4D50-A991-6C3A018F1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1FDC-48F9-49B4-808D-550BCD569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FAF3-7D5E-4AB1-927C-F7D5EEA52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4634A-4D16-40BA-928D-CE65363D3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ADAE3-A361-4EF9-91B9-8140BA7BC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BF017-19B5-415B-8184-3614E0B5E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77B26-3585-415A-AE53-53ACF06B4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CC224-BE36-4A62-8B6A-4661C37BC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18497-E28E-46DB-BAFB-6335B5FE8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16ACC-3E70-44B9-BBDA-79AE09FFE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4C25-C95D-4CE9-9F46-85E581B75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94DA3-5B9A-4193-AED0-A1D47BC3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A112B-C7C0-4AFD-A1B4-DEBBA16F5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6C3C3-C830-45DB-949E-8DDD7718D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FD9FE-0E6A-4962-B470-503CF715D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172A6-D5CF-4384-B233-32BDBC0B2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09FC4-072A-492F-ADA0-F634CEC88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D8635-402A-4752-8460-2119D7754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2681A-5E98-4FDC-A8C9-8E57C7975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CDFF0-A54B-458F-BD9C-7C054D286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DB8BD-3652-4263-AA7A-6F0171648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B2DC-7FA5-4341-A804-B8E73FBB6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04A76-757E-4FFA-93B2-67349A761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2E688-5B53-4ED7-9250-70ADC092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AA24E-8FAB-48E3-A339-CB3B5A05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4E833-4DB3-4A49-BB38-E62E7EDF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50929-363C-410A-8729-72F85F187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0B9EB-0360-44FE-89DD-A348488D4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BA5E1-976C-487E-A4BE-3F7B70B6C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F0895-6D78-4FE6-81A8-651C9903E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BFC2C-21B4-4AFC-9A7A-84DCE6C3A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16ECD-02EC-4904-9876-3B153FC69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F80A-0FF0-4756-AB52-52F041703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3B7E6-223B-4145-9272-7F2D71CB1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2F491-EB21-4AC5-A9E5-D98AA89A7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764FC-7E2D-4D13-B270-E615D686E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07A90-BCB4-403D-976B-61E94C0D9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153BC-BAEE-4176-AA49-1FA05FBC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780EC-2400-401A-8E84-254ACA61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A8E6B-BE88-4C32-BDB5-0F5C73548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06E22-9150-4B57-87FC-A086B6D89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AA9ED-20FA-47BB-98DB-603501A67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C30C8-E2AE-4749-B670-D17A7779D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8F8E-2D27-494C-8233-D49616B4E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66ACDE-4570-4AC2-8EEF-BB072976F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B1C66-2FD2-47C8-A4D4-3338772F4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CD2ED9-0473-4402-B49F-A827B931E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58BF2-726E-4AAB-825B-059D34AB6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CB1EB1-94D9-4411-B26B-A33AB9771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1572E-7279-4212-9A62-CC0E3589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D7BF6-24BE-4BF6-A466-2770BC07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0D31F-CDE1-4805-92F4-EAE09416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6711C-C908-4CA4-B1EA-4102B4C9F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1B1B65-38D0-4413-9C69-65A01EF14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FCCA-4402-4DD6-BF64-4837D212E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3A9BDA-5EB2-4F3B-84DF-F70F04489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681C41-5BB4-4DB1-97D8-9FA637B32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0EABFB-FB7A-482F-A2D7-BDA0DA30A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F606EB-BECD-490F-9269-87BFB8735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E71286-0315-4D5F-BFB0-F8C7938CE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E501D7-F3A6-49A5-933B-4337A0CE9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C8E01E-D42C-4EFA-884A-285EA8184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8F58D5-DA15-4B4E-A9E7-4D8FD96C0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02D806-58F7-49A7-B1BA-A7E043B70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1CB876-B006-438F-A86F-BEC9500B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03BC-0171-45C2-9ABA-0A443181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A9A1A6-7076-46B7-BA84-0AFFA3491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E90DF3-BC82-4E99-94C0-97B9C7766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821D8C-F473-427B-A090-A6474C980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27CCAF-AEE1-4424-A6D3-02EDF883F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7C4C50-DD8E-4BDB-B252-81C31802D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4F3D60-7DCF-4F75-8EF2-389854112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7C424C-A6FE-42B0-B3E3-958F81575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DB6C1D-9286-454C-A343-A6C859067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D1E8DB-4A81-477F-9107-6E85F474D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CE7204-58B1-43E4-B668-A381657C1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6A58-D1D1-4977-9089-39722CBE8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8B6A11-C3BB-47E9-8F96-435D91466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310264-1371-4AC9-927F-150D1BC94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8538FD-9844-4B8D-AE4F-903F323EA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3CFF26-31B2-452B-9383-976884A9F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611A2-DC31-405F-AF11-99E09045D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F057AB-6AE3-4D4A-B203-E8F50CDE8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C530E6-F179-4E54-AE10-B5FF1450D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AD938C-4875-45A5-A865-B4D90E188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B6D1CB-8F33-4BE5-8A03-98D8FDDE2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14F152-FFE2-464B-A8BB-D472ECBF8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E640-58F9-4130-82AD-233F3E20E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A36004-65D0-4C5D-9D56-AB93873CE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494E1D-8FB5-47D5-AC86-D50103D1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C5F725-4E20-4E8D-94C9-880068D6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E98252-5B6D-429B-A100-4F6B0D823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F60DC5-4C40-45EB-8075-FA2596BC1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AC456D-DA73-40F2-A79C-12B2162A7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7FD394-FA5F-454E-B3DA-128A8386C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1981FF-1A8B-48DF-BE73-9704C4C86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F59D2B-5B45-4878-9B18-964174176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8EA20F-05CD-4150-9E7A-3F35E9306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90FFF-0492-4511-9F55-857ED069666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BAC30-8F9B-4615-BB4A-1A0C7B6C1B9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2EC41-8BAF-4CBC-BFBF-733DE052729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FBB34-FA06-4037-BF8B-CC0DD6FF45C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ED2FD-9387-4437-BACB-0AC7494FC82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6865200" y="6315480"/>
            <a:ext cx="150876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8A4F8-36FF-4D48-84FE-FE9C78E0D63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6865200" y="6315480"/>
            <a:ext cx="150876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022C8-2F89-4133-BF7E-38162F9E4FC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4"/>
          </p:nvPr>
        </p:nvSpPr>
        <p:spPr>
          <a:xfrm>
            <a:off x="6865200" y="6315480"/>
            <a:ext cx="150876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8C074-2B1D-488A-86BA-63CF6756D62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7"/>
          </p:nvPr>
        </p:nvSpPr>
        <p:spPr>
          <a:xfrm>
            <a:off x="6865200" y="6315480"/>
            <a:ext cx="150876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3A8AD-E8B5-4649-A7E6-AD26C12F74F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5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96464"/>
                </a:solidFill>
                <a:latin typeface="Perpetua"/>
              </a:rPr>
              <a:t>Ionic Bonding</a:t>
            </a:r>
            <a:endParaRPr b="0" lang="en-US" sz="4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96464"/>
                </a:solidFill>
                <a:latin typeface="Perpetua"/>
              </a:rPr>
              <a:t>Naming Chemical Compounds</a:t>
            </a:r>
            <a:endParaRPr b="0" lang="en-US" sz="4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Chapters 7 and 9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Alloy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914400" y="14479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loys are mixtures of metal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perties of alloys are usually superior to those of their component element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59" name="Picture 2" descr="http://wps.prenhall.com/wps/media/objects/3313/3392987/imag2306/AAAYOGN0.JPG"/>
          <p:cNvPicPr/>
          <p:nvPr/>
        </p:nvPicPr>
        <p:blipFill>
          <a:blip r:embed="rId1"/>
          <a:srcRect l="0" t="0" r="0" b="13280"/>
          <a:stretch/>
        </p:blipFill>
        <p:spPr>
          <a:xfrm>
            <a:off x="2494080" y="4056120"/>
            <a:ext cx="4286160" cy="2122560"/>
          </a:xfrm>
          <a:prstGeom prst="rect">
            <a:avLst/>
          </a:prstGeom>
          <a:ln w="0">
            <a:noFill/>
          </a:ln>
        </p:spPr>
      </p:pic>
      <p:sp>
        <p:nvSpPr>
          <p:cNvPr id="460" name="TextBox 3"/>
          <p:cNvSpPr/>
          <p:nvPr/>
        </p:nvSpPr>
        <p:spPr>
          <a:xfrm>
            <a:off x="152280" y="488628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titutional Allo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Box 5"/>
          <p:cNvSpPr/>
          <p:nvPr/>
        </p:nvSpPr>
        <p:spPr>
          <a:xfrm>
            <a:off x="6838920" y="4886280"/>
            <a:ext cx="17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stitial Allo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Picture 4" descr="http://image.made-in-china.com/2f0j00eBmELsvKltYA/Lead-Brass-HPB58-3-HPB59-1-C3771-.jpg"/>
          <p:cNvPicPr/>
          <p:nvPr/>
        </p:nvPicPr>
        <p:blipFill>
          <a:blip r:embed="rId2"/>
          <a:stretch/>
        </p:blipFill>
        <p:spPr>
          <a:xfrm>
            <a:off x="1819440" y="2881440"/>
            <a:ext cx="1706400" cy="136188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6" descr="http://image.made-in-china.com/2f0j00MvtQpYNRJBrs/Stainless-Steel-Perforated-Sheet-HDP05-.jpg"/>
          <p:cNvPicPr/>
          <p:nvPr/>
        </p:nvPicPr>
        <p:blipFill>
          <a:blip r:embed="rId3"/>
          <a:stretch/>
        </p:blipFill>
        <p:spPr>
          <a:xfrm>
            <a:off x="3824280" y="2908440"/>
            <a:ext cx="1438200" cy="107604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http://t3.gstatic.com/images?q=tbn:ANd9GcR8TwWrq07MrtbKL9DbTQp5zACAufcxBaKWnRGVrwXCXBKxNQcWgfX98lXM"/>
          <p:cNvPicPr/>
          <p:nvPr/>
        </p:nvPicPr>
        <p:blipFill>
          <a:blip r:embed="rId4"/>
          <a:stretch/>
        </p:blipFill>
        <p:spPr>
          <a:xfrm>
            <a:off x="5629320" y="2847960"/>
            <a:ext cx="120024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Recalling the Periodic Table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graphicFrame>
        <p:nvGraphicFramePr>
          <p:cNvPr id="466" name=""/>
          <p:cNvGraphicFramePr/>
          <p:nvPr/>
        </p:nvGraphicFramePr>
        <p:xfrm>
          <a:off x="457200" y="1676520"/>
          <a:ext cx="8229600" cy="4700520"/>
        </p:xfrm>
        <a:graphic>
          <a:graphicData uri="http://schemas.openxmlformats.org/drawingml/2006/table">
            <a:tbl>
              <a:tblPr/>
              <a:tblGrid>
                <a:gridCol w="2541600"/>
                <a:gridCol w="1906560"/>
                <a:gridCol w="1844640"/>
                <a:gridCol w="1936800"/>
              </a:tblGrid>
              <a:tr h="79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etal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Lef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onmetals (Righ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etalloi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on lin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hysical 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flect light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lleability/Ductility: hammered/draw to wir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elting po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nduct heat/electricity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7" name="TextBox 1"/>
          <p:cNvSpPr/>
          <p:nvPr/>
        </p:nvSpPr>
        <p:spPr>
          <a:xfrm>
            <a:off x="3048120" y="2590920"/>
            <a:ext cx="17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Except H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4"/>
          <p:cNvSpPr/>
          <p:nvPr/>
        </p:nvSpPr>
        <p:spPr>
          <a:xfrm>
            <a:off x="4952880" y="2590920"/>
            <a:ext cx="1752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id or G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Except B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Box 5"/>
          <p:cNvSpPr/>
          <p:nvPr/>
        </p:nvSpPr>
        <p:spPr>
          <a:xfrm>
            <a:off x="6837480" y="259092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6"/>
          <p:cNvSpPr/>
          <p:nvPr/>
        </p:nvSpPr>
        <p:spPr>
          <a:xfrm>
            <a:off x="3068640" y="3352680"/>
            <a:ext cx="17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polish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7"/>
          <p:cNvSpPr/>
          <p:nvPr/>
        </p:nvSpPr>
        <p:spPr>
          <a:xfrm>
            <a:off x="4952880" y="334008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8"/>
          <p:cNvSpPr/>
          <p:nvPr/>
        </p:nvSpPr>
        <p:spPr>
          <a:xfrm>
            <a:off x="6837480" y="3322800"/>
            <a:ext cx="17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polish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9"/>
          <p:cNvSpPr/>
          <p:nvPr/>
        </p:nvSpPr>
        <p:spPr>
          <a:xfrm>
            <a:off x="3057480" y="419112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10"/>
          <p:cNvSpPr/>
          <p:nvPr/>
        </p:nvSpPr>
        <p:spPr>
          <a:xfrm>
            <a:off x="4952880" y="419112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11"/>
          <p:cNvSpPr/>
          <p:nvPr/>
        </p:nvSpPr>
        <p:spPr>
          <a:xfrm>
            <a:off x="6805440" y="419112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12"/>
          <p:cNvSpPr/>
          <p:nvPr/>
        </p:nvSpPr>
        <p:spPr>
          <a:xfrm>
            <a:off x="3068640" y="5029200"/>
            <a:ext cx="17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&gt; 80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13"/>
          <p:cNvSpPr/>
          <p:nvPr/>
        </p:nvSpPr>
        <p:spPr>
          <a:xfrm>
            <a:off x="4952880" y="502920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14"/>
          <p:cNvSpPr/>
          <p:nvPr/>
        </p:nvSpPr>
        <p:spPr>
          <a:xfrm>
            <a:off x="6805440" y="501336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o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15"/>
          <p:cNvSpPr/>
          <p:nvPr/>
        </p:nvSpPr>
        <p:spPr>
          <a:xfrm>
            <a:off x="3078000" y="586728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16"/>
          <p:cNvSpPr/>
          <p:nvPr/>
        </p:nvSpPr>
        <p:spPr>
          <a:xfrm>
            <a:off x="4923000" y="586728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17"/>
          <p:cNvSpPr/>
          <p:nvPr/>
        </p:nvSpPr>
        <p:spPr>
          <a:xfrm>
            <a:off x="6837480" y="586728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w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83" name="Picture 6" descr="periodic_colo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0" y="221760"/>
            <a:ext cx="512928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Periodic Table Review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41000" y="2742840"/>
            <a:ext cx="47242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-5778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Group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- vertical columns within the periodic table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577800" indent="-5778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952560" indent="-49536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0000"/>
                </a:solidFill>
                <a:uFillTx/>
                <a:latin typeface="Calibri"/>
              </a:rPr>
              <a:t>Representative element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- group “A” elements (columns1,2, 13-18 or s and p block elements)</a:t>
            </a:r>
            <a:endParaRPr b="0" lang="en-US" sz="2100" spc="-1" strike="noStrike">
              <a:solidFill>
                <a:srgbClr val="000000"/>
              </a:solidFill>
              <a:latin typeface="Perpetua"/>
            </a:endParaRPr>
          </a:p>
          <a:p>
            <a:pPr lvl="1" marL="952560" indent="-49536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Perpetua"/>
            </a:endParaRPr>
          </a:p>
          <a:p>
            <a:pPr lvl="1" marL="952560" indent="-49536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0000"/>
                </a:solidFill>
                <a:uFillTx/>
                <a:latin typeface="Calibri"/>
              </a:rPr>
              <a:t>Transition metal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- group “B” elements (columns 3-12 or d block elements).  Also include inner transition elements or f block elements.</a:t>
            </a:r>
            <a:endParaRPr b="0" lang="en-US" sz="21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5105160" y="1752480"/>
            <a:ext cx="3749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Important families of element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14400" indent="-457200">
              <a:lnSpc>
                <a:spcPct val="7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lkali Metals-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tals in group 1A that form +1 ion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14400" indent="-457200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14400" indent="-457200">
              <a:lnSpc>
                <a:spcPct val="7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lkaline Earth Metal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metals in group 2A that form +2 ion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14400" indent="-457200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14400" indent="-457200">
              <a:lnSpc>
                <a:spcPct val="7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Haloge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nonmetals in group 7A that form -1 ion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14400" indent="-457200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14400" indent="-457200">
              <a:lnSpc>
                <a:spcPct val="7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Noble gas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Nonmetals located in far right column that are generally nonreactiv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7" name="AutoShape 8"/>
          <p:cNvSpPr/>
          <p:nvPr/>
        </p:nvSpPr>
        <p:spPr>
          <a:xfrm>
            <a:off x="63360" y="-155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10"/>
          <p:cNvSpPr/>
          <p:nvPr/>
        </p:nvSpPr>
        <p:spPr>
          <a:xfrm>
            <a:off x="216000" y="-3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Picture 11" descr=""/>
          <p:cNvPicPr/>
          <p:nvPr/>
        </p:nvPicPr>
        <p:blipFill>
          <a:blip r:embed="rId1"/>
          <a:stretch/>
        </p:blipFill>
        <p:spPr>
          <a:xfrm>
            <a:off x="404640" y="609480"/>
            <a:ext cx="168624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Atoms vs. Ion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76320" y="3733920"/>
            <a:ext cx="90676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1035000" indent="-5778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Atom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NEUTRAL species with equal number of protons and electron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103500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Perpetua"/>
            </a:endParaRPr>
          </a:p>
          <a:p>
            <a:pPr lvl="1" marL="1035000" indent="-5778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CHARGED species with unequal number of protons and electron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409760" indent="-495360">
              <a:lnSpc>
                <a:spcPct val="10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Ca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(+) ion [lost electron(s)]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409760" indent="-495360">
              <a:lnSpc>
                <a:spcPct val="10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An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(-) ion [gained electron(s)]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92" name="Picture 8" descr="atom_ion_na"/>
          <p:cNvPicPr/>
          <p:nvPr/>
        </p:nvPicPr>
        <p:blipFill>
          <a:blip r:embed="rId1"/>
          <a:stretch/>
        </p:blipFill>
        <p:spPr>
          <a:xfrm>
            <a:off x="3733920" y="609480"/>
            <a:ext cx="293364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4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ompound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3818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035000" indent="-5778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ound- collection of atoms that is NEUTRAL overal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409760" indent="-495360">
              <a:lnSpc>
                <a:spcPct val="10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Molecular compound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osed of nonmetal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409760" indent="-495360">
              <a:lnSpc>
                <a:spcPct val="10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Ionic compou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composed of cations and anions (metal ions and nonmetal ions) in a crystal lattic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95" name="Picture 5" descr="nacl1"/>
          <p:cNvPicPr/>
          <p:nvPr/>
        </p:nvPicPr>
        <p:blipFill>
          <a:blip r:embed="rId1"/>
          <a:stretch/>
        </p:blipFill>
        <p:spPr>
          <a:xfrm>
            <a:off x="1447920" y="3886200"/>
            <a:ext cx="2189160" cy="218916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8" descr="compounds_molecules"/>
          <p:cNvPicPr/>
          <p:nvPr/>
        </p:nvPicPr>
        <p:blipFill>
          <a:blip r:embed="rId2"/>
          <a:stretch/>
        </p:blipFill>
        <p:spPr>
          <a:xfrm>
            <a:off x="4343400" y="3809880"/>
            <a:ext cx="3962520" cy="23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Interpreting Chemical Formula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terpreting Formula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1035000" indent="-5778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Molecular formul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indicates type and amount of each atom in a compound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1035000" indent="-5778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Perpetua"/>
            </a:endParaRPr>
          </a:p>
          <a:p>
            <a:pPr lvl="1" marL="1035000" indent="-5778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Diatomic molecul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Br I N Cl H O F exist as two atom molecules when ALONE!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Example:  B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1035000" indent="-5778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Perpetua"/>
            </a:endParaRPr>
          </a:p>
          <a:p>
            <a:pPr lvl="1" marL="1035000" indent="-5778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Formula uni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lowest ratio of ions in an ionic compound (so that charge is zero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1035000" indent="-5778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Perpetua"/>
            </a:endParaRPr>
          </a:p>
          <a:p>
            <a:pPr lvl="1" marL="1035000" indent="-5778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tio of Atoms in a Compound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409760" indent="-495360">
              <a:lnSpc>
                <a:spcPct val="9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aw of Definite Proportion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409760" indent="-495360">
              <a:lnSpc>
                <a:spcPct val="9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aw of Multiple Proportions (Examples:  Fe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Fe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4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2000"/>
                                        <p:tgtEl>
                                          <p:spTgt spid="4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4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Writing Formulas of Molecular Compounds 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riting Formulas (Example: Carbon Dioxide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660240" indent="-6602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Perpetua"/>
            </a:endParaRPr>
          </a:p>
          <a:p>
            <a:pPr lvl="1" marL="1035000" indent="-5778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metalli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lement (or least electronegative)first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1035000" indent="-5778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Ex: carbon before oxygen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1035000" indent="-5778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rite symbols for each element next to one anothe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1035000" indent="-5778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Ex: CO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1035000" indent="-5778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Perpetua"/>
            </a:endParaRPr>
          </a:p>
          <a:p>
            <a:pPr lvl="1" marL="1035000" indent="-5778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 subscripts to relate number of each atom in the molecule (Ex: 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CO</a:t>
            </a:r>
            <a:r>
              <a:rPr b="1" lang="en-US" sz="2400" spc="-1" strike="noStrike" baseline="-25000">
                <a:solidFill>
                  <a:srgbClr val="7030a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1035000" indent="-5778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409760" indent="-495360">
              <a:lnSpc>
                <a:spcPct val="10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eek Prefixes- KNOW: mono-, di-, tri-, tetra-, penta-, hexa-, hepta-, octa-, nona-, deca-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5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5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5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Naming Molecular Compounds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228600" y="159984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aming Binary Molecular Compounds (Ex: S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1035000" indent="-5778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me in order appearing in formula  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1035000" indent="-5778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Ex: sulfur oxygen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1035000" indent="-5778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Perpetua"/>
            </a:endParaRPr>
          </a:p>
          <a:p>
            <a:pPr lvl="1" marL="1035000" indent="-5778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place ending of last element with -ide (Ex: sulfur oxide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1035000" indent="-5778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Perpetua"/>
            </a:endParaRPr>
          </a:p>
          <a:p>
            <a:pPr lvl="1" marL="1035000" indent="-5778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 prefixes to indicate number of each atom in molecule (Ex: 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sulfur trioxid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Note: mono is dropped if there is only one of the first atom.  It is used if there is only one of the second atom. (example: CO is named carbon monoxid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5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5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82844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Naming Ionic Compound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80880" y="1523520"/>
            <a:ext cx="8382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cations are given the element’s nam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660240" indent="-6602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s: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N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 =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odiu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hlorid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660240" indent="-6602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    =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Potassiu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hlorid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660240" indent="-6602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Perpetua"/>
            </a:endParaRPr>
          </a:p>
          <a:p>
            <a:pPr marL="660240" indent="-6602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atomic anions end in –id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660240" indent="-6602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B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= Lithium brom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id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4" marL="257004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g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= Magnesium sulf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id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4" marL="257004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Perpetua"/>
            </a:endParaRPr>
          </a:p>
          <a:p>
            <a:pPr marL="660240" indent="-6602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lyatomic ions usually end in –ate or –it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1035000" indent="-5778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ceptions: 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C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and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5"/>
          <p:cNvSpPr/>
          <p:nvPr/>
        </p:nvSpPr>
        <p:spPr>
          <a:xfrm>
            <a:off x="2819520" y="5376960"/>
            <a:ext cx="533160" cy="457200"/>
          </a:xfrm>
          <a:prstGeom prst="rect">
            <a:avLst/>
          </a:prstGeom>
          <a:solidFill>
            <a:srgbClr val="d34817">
              <a:alpha val="44000"/>
            </a:srgbClr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Valence Electron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914400" y="1447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ements with similar chemical behavior have the same number of valence electron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the representative elements (1A, 2A, 3A, 4A, 5A, 6A, 7A, 8A) the group number corresponds to the number of valence electron in each group (with the exception of He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examining electron configurations, the electrons that are present in the highest principle energy level represent the valence electrons of those atom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1447920" y="5376960"/>
            <a:ext cx="457200" cy="457200"/>
          </a:xfrm>
          <a:prstGeom prst="rect">
            <a:avLst/>
          </a:prstGeom>
          <a:solidFill>
            <a:srgbClr val="d34817">
              <a:alpha val="44000"/>
            </a:srgbClr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6"/>
          <p:cNvSpPr/>
          <p:nvPr/>
        </p:nvSpPr>
        <p:spPr>
          <a:xfrm>
            <a:off x="152280" y="534348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:  [Ar]4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4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mine has 7 valence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Writing Formulas of Ionic Compounds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380520" y="14479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riting Formulas of Ionic Compounds  (Ex: sodium oxide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660240" indent="-66024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1035000" indent="-5778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dentify charge on metal and nonmetal ions- (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1035000" indent="-5778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iss-cross superscripts to balance charges (N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1035000" indent="-5778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eck if total formula has 0 charge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1035000" indent="-577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2  Na ions @ +1) + (1 O ion @ -2) = 0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1035000" indent="-5778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rite answer with subscripts (N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1035000" indent="-577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1035000" indent="-5778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Note: Polyatomic (many atom) ions are written same except parenthesis are put around them if subscripts are ad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308240" indent="-57816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ample:  Magnesium hydroxid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308240" indent="-57816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M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2+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1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= Mg(OH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5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5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5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5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5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464"/>
                </a:solidFill>
                <a:latin typeface="Franklin Gothic Book"/>
              </a:rPr>
              <a:t>Stock System- transition metal ion charge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152280" y="1599840"/>
            <a:ext cx="8839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40080" indent="-6400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metals can exist in several forms (Ex: Cu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+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Cu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640080" indent="-6400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Perpetua"/>
            </a:endParaRPr>
          </a:p>
          <a:p>
            <a:pPr marL="640080" indent="-6400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emical formula used to decide which ion is present (Ex: Cu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must be Cu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640080" indent="-6400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640080" indent="-6400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naming the ion the charge number is represented in roman numerals in parenthesis following the element  name  (Ex: copper (II) chloride)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640080" indent="-6400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640080" indent="-6400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**  This is only done for elements that can have more than one possible charge. Refer to your ion table**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5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Acid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991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035000" indent="-5778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ids- form hydronium ions in water 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1+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1035000" indent="-5778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nary Acids contain H and one non-metal  (HCl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308240" indent="-578160">
              <a:lnSpc>
                <a:spcPct val="9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names of binary acids always begin with hydro and are completed by dropping the ending of the nonmetal and adding  -ic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3082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Cl = Hydrochloric Acid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3082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511" name="Picture 5" descr="Acid_med"/>
          <p:cNvPicPr/>
          <p:nvPr/>
        </p:nvPicPr>
        <p:blipFill>
          <a:blip r:embed="rId1"/>
          <a:stretch/>
        </p:blipFill>
        <p:spPr>
          <a:xfrm>
            <a:off x="7696080" y="457200"/>
            <a:ext cx="990720" cy="1219320"/>
          </a:xfrm>
          <a:prstGeom prst="rect">
            <a:avLst/>
          </a:prstGeom>
          <a:ln w="0">
            <a:noFill/>
          </a:ln>
        </p:spPr>
      </p:pic>
      <p:sp>
        <p:nvSpPr>
          <p:cNvPr id="512" name="TextBox 7"/>
          <p:cNvSpPr/>
          <p:nvPr/>
        </p:nvSpPr>
        <p:spPr>
          <a:xfrm>
            <a:off x="304920" y="3429000"/>
            <a:ext cx="8762760" cy="23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b2d1f"/>
              </a:buClr>
              <a:buSzPct val="11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xyacids contain H and a polyatomic anion which contains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9b2d1f"/>
              </a:buClr>
              <a:buSzPct val="11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xyacids are named by dropping the –ate or –ite ending from the anion and adding –ic or –o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9b2d1f"/>
              </a:buClr>
              <a:buSzPct val="112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 Hydrogen plus sulf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 sulfur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i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9b2d1f"/>
              </a:buClr>
              <a:buSzPct val="112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 Hydrogen plus sulf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 sulfur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ou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6" descr=""/>
          <p:cNvPicPr/>
          <p:nvPr/>
        </p:nvPicPr>
        <p:blipFill>
          <a:blip r:embed="rId2"/>
          <a:stretch/>
        </p:blipFill>
        <p:spPr>
          <a:xfrm>
            <a:off x="762120" y="5486400"/>
            <a:ext cx="1212840" cy="1212840"/>
          </a:xfrm>
          <a:prstGeom prst="rect">
            <a:avLst/>
          </a:prstGeom>
          <a:ln w="0">
            <a:noFill/>
          </a:ln>
        </p:spPr>
      </p:pic>
      <p:sp>
        <p:nvSpPr>
          <p:cNvPr id="514" name="TextBox 1"/>
          <p:cNvSpPr/>
          <p:nvPr/>
        </p:nvSpPr>
        <p:spPr>
          <a:xfrm>
            <a:off x="2133720" y="590868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ember:  If you “ate” acid, you might say “ic”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30040" y="380880"/>
            <a:ext cx="8686800" cy="6559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464"/>
                </a:solidFill>
                <a:latin typeface="Calibri"/>
              </a:rPr>
              <a:t>Valence Electrons and Electron Dot Structures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909720" y="1047600"/>
            <a:ext cx="7772400" cy="706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Valence electrons are the electrons that participate in chemical bond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lectron dot structures consist of the atom symbol and its valence electrons represented as dot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09" name="Picture 2" descr="http://msnugentisawesome.wikispaces.com/file/view/lewis_dot_diagram_chem.gif/34576165/lewis_dot_diagram_chem.gif"/>
          <p:cNvPicPr/>
          <p:nvPr/>
        </p:nvPicPr>
        <p:blipFill>
          <a:blip r:embed="rId1"/>
          <a:srcRect l="0" t="12261" r="0" b="14739"/>
          <a:stretch/>
        </p:blipFill>
        <p:spPr>
          <a:xfrm>
            <a:off x="2438280" y="4168800"/>
            <a:ext cx="4791240" cy="207972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6"/>
          <p:cNvSpPr/>
          <p:nvPr/>
        </p:nvSpPr>
        <p:spPr>
          <a:xfrm>
            <a:off x="4795920" y="3629160"/>
            <a:ext cx="304560" cy="272880"/>
          </a:xfrm>
          <a:prstGeom prst="rect">
            <a:avLst/>
          </a:prstGeom>
          <a:solidFill>
            <a:srgbClr val="d34817">
              <a:alpha val="38000"/>
            </a:srgbClr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9"/>
          <p:cNvSpPr/>
          <p:nvPr/>
        </p:nvSpPr>
        <p:spPr>
          <a:xfrm>
            <a:off x="5632560" y="3629160"/>
            <a:ext cx="304560" cy="272880"/>
          </a:xfrm>
          <a:prstGeom prst="rect">
            <a:avLst/>
          </a:prstGeom>
          <a:solidFill>
            <a:srgbClr val="d34817">
              <a:alpha val="38000"/>
            </a:srgbClr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"/>
          <p:cNvSpPr/>
          <p:nvPr/>
        </p:nvSpPr>
        <p:spPr>
          <a:xfrm>
            <a:off x="3754440" y="3581280"/>
            <a:ext cx="21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:  [Ar]4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3d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4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3" name="Straight Arrow Connector 10"/>
          <p:cNvCxnSpPr>
            <a:stCxn id="412" idx="2"/>
          </p:cNvCxnSpPr>
          <p:nvPr/>
        </p:nvCxnSpPr>
        <p:spPr>
          <a:xfrm>
            <a:off x="4835520" y="3951360"/>
            <a:ext cx="1566000" cy="1257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14" name="Straight Connector 12"/>
          <p:cNvSpPr/>
          <p:nvPr/>
        </p:nvSpPr>
        <p:spPr>
          <a:xfrm>
            <a:off x="5784840" y="3902040"/>
            <a:ext cx="122400" cy="898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The Octet Rule - Metals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	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914400" y="1447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etals tend to lose electrons to gain stability.  When they lose electrons they attain a stable electron configuration where the next lowest-energy level has a full octet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17" name="Picture 2" descr="http://www.marin.edu/homepages/ErikDunmire/CHEM105/Concept_Review/Images/Cation_Formation.jpg"/>
          <p:cNvPicPr/>
          <p:nvPr/>
        </p:nvPicPr>
        <p:blipFill>
          <a:blip r:embed="rId1"/>
          <a:stretch/>
        </p:blipFill>
        <p:spPr>
          <a:xfrm>
            <a:off x="533520" y="3473280"/>
            <a:ext cx="4887720" cy="290700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http://www.middleschoolchemistry.com/img/content/multimedia/chapter_4/lesson_6/ionic_bond_sodium_chloride_1.jpg"/>
          <p:cNvPicPr/>
          <p:nvPr/>
        </p:nvPicPr>
        <p:blipFill>
          <a:blip r:embed="rId2"/>
          <a:srcRect l="0" t="55241" r="50013" b="0"/>
          <a:stretch/>
        </p:blipFill>
        <p:spPr>
          <a:xfrm>
            <a:off x="5362560" y="5257800"/>
            <a:ext cx="1428840" cy="127944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6" descr="http://www.middleschoolchemistry.com/img/content/multimedia/chapter_4/lesson_6/ionic_bond_sodium_chloride_3.jpg"/>
          <p:cNvPicPr/>
          <p:nvPr/>
        </p:nvPicPr>
        <p:blipFill>
          <a:blip r:embed="rId3"/>
          <a:srcRect l="0" t="57344" r="50013" b="0"/>
          <a:stretch/>
        </p:blipFill>
        <p:spPr>
          <a:xfrm>
            <a:off x="7230960" y="5073480"/>
            <a:ext cx="1530360" cy="1306800"/>
          </a:xfrm>
          <a:prstGeom prst="rect">
            <a:avLst/>
          </a:prstGeom>
          <a:ln w="0">
            <a:noFill/>
          </a:ln>
        </p:spPr>
      </p:pic>
      <p:cxnSp>
        <p:nvCxnSpPr>
          <p:cNvPr id="420" name="Straight Arrow Connector 4"/>
          <p:cNvCxnSpPr/>
          <p:nvPr/>
        </p:nvCxnSpPr>
        <p:spPr>
          <a:xfrm>
            <a:off x="6838920" y="5897160"/>
            <a:ext cx="7052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The Octet Rule – Non-metal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on-metals tend to gain electrons to obtain a full octet in their highest occupied p sub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23" name="Picture 2" descr="http://www.middleschoolchemistry.com/img/content/multimedia/chapter_4/lesson_6/ionic_bond_sodium_chloride_3.jpg"/>
          <p:cNvPicPr/>
          <p:nvPr/>
        </p:nvPicPr>
        <p:blipFill>
          <a:blip r:embed="rId1"/>
          <a:srcRect l="50013" t="60191" r="0" b="0"/>
          <a:stretch/>
        </p:blipFill>
        <p:spPr>
          <a:xfrm>
            <a:off x="7143840" y="4979880"/>
            <a:ext cx="1544400" cy="12304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http://www.middleschoolchemistry.com/img/content/multimedia/chapter_4/lesson_6/ionic_bond_sodium_chloride_1.jpg"/>
          <p:cNvPicPr/>
          <p:nvPr/>
        </p:nvPicPr>
        <p:blipFill>
          <a:blip r:embed="rId2"/>
          <a:srcRect l="50013" t="53716" r="0" b="0"/>
          <a:stretch/>
        </p:blipFill>
        <p:spPr>
          <a:xfrm>
            <a:off x="5276880" y="4979880"/>
            <a:ext cx="1428840" cy="1322640"/>
          </a:xfrm>
          <a:prstGeom prst="rect">
            <a:avLst/>
          </a:prstGeom>
          <a:ln w="0">
            <a:noFill/>
          </a:ln>
        </p:spPr>
      </p:pic>
      <p:cxnSp>
        <p:nvCxnSpPr>
          <p:cNvPr id="425" name="Straight Arrow Connector 4"/>
          <p:cNvCxnSpPr/>
          <p:nvPr/>
        </p:nvCxnSpPr>
        <p:spPr>
          <a:xfrm>
            <a:off x="6400440" y="5641560"/>
            <a:ext cx="6102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426" name="Picture 6" descr="http://www.bbc.co.uk/schools/gcsebitesize/science/images/diag_chlorine.gif"/>
          <p:cNvPicPr/>
          <p:nvPr/>
        </p:nvPicPr>
        <p:blipFill>
          <a:blip r:embed="rId3"/>
          <a:srcRect l="0" t="0" r="0" b="11977"/>
          <a:stretch/>
        </p:blipFill>
        <p:spPr>
          <a:xfrm>
            <a:off x="2133720" y="2438280"/>
            <a:ext cx="4038480" cy="20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464"/>
                </a:solidFill>
                <a:latin typeface="Franklin Gothic Book"/>
              </a:rPr>
              <a:t>Formation of Ionic Compounds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838080" y="9144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ations and anions combine to form ionic compound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29" name="Picture 2" descr="http://kgortney.pbworks.com/f/1288107836/ionic_bond.jpg"/>
          <p:cNvPicPr/>
          <p:nvPr/>
        </p:nvPicPr>
        <p:blipFill>
          <a:blip r:embed="rId1"/>
          <a:srcRect l="0" t="2881" r="0" b="3086"/>
          <a:stretch/>
        </p:blipFill>
        <p:spPr>
          <a:xfrm>
            <a:off x="533520" y="1542960"/>
            <a:ext cx="3260520" cy="399744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http://www.middleschoolchemistry.com/img/content/multimedia/chapter_4/lesson_6/ionic_bond_sodium_chloride_1.jpg"/>
          <p:cNvPicPr/>
          <p:nvPr/>
        </p:nvPicPr>
        <p:blipFill>
          <a:blip r:embed="rId2"/>
          <a:srcRect l="0" t="55241" r="50013" b="0"/>
          <a:stretch/>
        </p:blipFill>
        <p:spPr>
          <a:xfrm>
            <a:off x="1182600" y="5640480"/>
            <a:ext cx="901800" cy="80640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6" descr="http://www.middleschoolchemistry.com/img/content/multimedia/chapter_4/lesson_6/ionic_bond_sodium_chloride_3.jpg"/>
          <p:cNvPicPr/>
          <p:nvPr/>
        </p:nvPicPr>
        <p:blipFill>
          <a:blip r:embed="rId3"/>
          <a:srcRect l="0" t="57344" r="50013" b="0"/>
          <a:stretch/>
        </p:blipFill>
        <p:spPr>
          <a:xfrm>
            <a:off x="3753000" y="5446800"/>
            <a:ext cx="1123920" cy="958680"/>
          </a:xfrm>
          <a:prstGeom prst="rect">
            <a:avLst/>
          </a:prstGeom>
          <a:ln w="0">
            <a:noFill/>
          </a:ln>
        </p:spPr>
      </p:pic>
      <p:cxnSp>
        <p:nvCxnSpPr>
          <p:cNvPr id="432" name="Straight Arrow Connector 6"/>
          <p:cNvCxnSpPr/>
          <p:nvPr/>
        </p:nvCxnSpPr>
        <p:spPr>
          <a:xfrm>
            <a:off x="3282840" y="6019560"/>
            <a:ext cx="7052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433" name="Picture 2" descr="http://www.middleschoolchemistry.com/img/content/multimedia/chapter_4/lesson_6/ionic_bond_sodium_chloride_3.jpg"/>
          <p:cNvPicPr/>
          <p:nvPr/>
        </p:nvPicPr>
        <p:blipFill>
          <a:blip r:embed="rId4"/>
          <a:srcRect l="50013" t="60191" r="0" b="0"/>
          <a:stretch/>
        </p:blipFill>
        <p:spPr>
          <a:xfrm>
            <a:off x="5334120" y="5506920"/>
            <a:ext cx="1145880" cy="91296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4" descr="http://www.middleschoolchemistry.com/img/content/multimedia/chapter_4/lesson_6/ionic_bond_sodium_chloride_1.jpg"/>
          <p:cNvPicPr/>
          <p:nvPr/>
        </p:nvPicPr>
        <p:blipFill>
          <a:blip r:embed="rId5"/>
          <a:srcRect l="50013" t="53716" r="0" b="0"/>
          <a:stretch/>
        </p:blipFill>
        <p:spPr>
          <a:xfrm>
            <a:off x="2487600" y="5640480"/>
            <a:ext cx="901800" cy="834840"/>
          </a:xfrm>
          <a:prstGeom prst="rect">
            <a:avLst/>
          </a:prstGeom>
          <a:ln w="0">
            <a:noFill/>
          </a:ln>
        </p:spPr>
      </p:pic>
      <p:sp>
        <p:nvSpPr>
          <p:cNvPr id="435" name="TextBox 3"/>
          <p:cNvSpPr/>
          <p:nvPr/>
        </p:nvSpPr>
        <p:spPr>
          <a:xfrm>
            <a:off x="1954080" y="5695920"/>
            <a:ext cx="76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10"/>
          <p:cNvSpPr/>
          <p:nvPr/>
        </p:nvSpPr>
        <p:spPr>
          <a:xfrm>
            <a:off x="4789440" y="5643720"/>
            <a:ext cx="76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7" name="Straight Arrow Connector 11"/>
          <p:cNvCxnSpPr/>
          <p:nvPr/>
        </p:nvCxnSpPr>
        <p:spPr>
          <a:xfrm>
            <a:off x="6324480" y="5925600"/>
            <a:ext cx="7052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8" name="TextBox 9"/>
          <p:cNvSpPr/>
          <p:nvPr/>
        </p:nvSpPr>
        <p:spPr>
          <a:xfrm>
            <a:off x="7093440" y="5540400"/>
            <a:ext cx="119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NaC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Picture 4" descr="http://t2.gstatic.com/images?q=tbn:ANd9GcTKKfuDVMzlk2i2J5wzAmcgQ8BBKiSFp1lGu82-JVAQLrffQzS2pw"/>
          <p:cNvPicPr/>
          <p:nvPr/>
        </p:nvPicPr>
        <p:blipFill>
          <a:blip r:embed="rId6"/>
          <a:stretch/>
        </p:blipFill>
        <p:spPr>
          <a:xfrm>
            <a:off x="4308480" y="1770120"/>
            <a:ext cx="38718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The Formation of Calcium Chlor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441" name="Picture 2" descr="http://www.acsmars.com/scholar/Chemistry/images/Ionic%20Bond%20Ca%20Cl2.png"/>
          <p:cNvPicPr/>
          <p:nvPr/>
        </p:nvPicPr>
        <p:blipFill>
          <a:blip r:embed="rId1"/>
          <a:srcRect l="0" t="0" r="0" b="11647"/>
          <a:stretch/>
        </p:blipFill>
        <p:spPr>
          <a:xfrm>
            <a:off x="1360440" y="1371600"/>
            <a:ext cx="6067440" cy="318924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4" descr="http://t3.gstatic.com/images?q=tbn:ANd9GcSqGC5WS1wR3ATyHqAOMgXA5aYRI6Q6_F7f5vMDiLRHTO0g6FPI"/>
          <p:cNvPicPr/>
          <p:nvPr/>
        </p:nvPicPr>
        <p:blipFill>
          <a:blip r:embed="rId2"/>
          <a:srcRect l="0" t="0" r="0" b="44580"/>
          <a:stretch/>
        </p:blipFill>
        <p:spPr>
          <a:xfrm>
            <a:off x="609480" y="5230800"/>
            <a:ext cx="2876760" cy="88272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6" descr="http://t3.gstatic.com/images?q=tbn:ANd9GcSqGC5WS1wR3ATyHqAOMgXA5aYRI6Q6_F7f5vMDiLRHTO0g6FPI"/>
          <p:cNvPicPr/>
          <p:nvPr/>
        </p:nvPicPr>
        <p:blipFill>
          <a:blip r:embed="rId3"/>
          <a:srcRect l="0" t="50011" r="0" b="0"/>
          <a:stretch/>
        </p:blipFill>
        <p:spPr>
          <a:xfrm>
            <a:off x="4114800" y="5205240"/>
            <a:ext cx="2876400" cy="795600"/>
          </a:xfrm>
          <a:prstGeom prst="rect">
            <a:avLst/>
          </a:prstGeom>
          <a:ln w="0">
            <a:noFill/>
          </a:ln>
        </p:spPr>
      </p:pic>
      <p:cxnSp>
        <p:nvCxnSpPr>
          <p:cNvPr id="444" name="Straight Arrow Connector 5"/>
          <p:cNvCxnSpPr/>
          <p:nvPr/>
        </p:nvCxnSpPr>
        <p:spPr>
          <a:xfrm>
            <a:off x="3486240" y="5646240"/>
            <a:ext cx="6292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5" name="Straight Arrow Connector 9"/>
          <p:cNvCxnSpPr/>
          <p:nvPr/>
        </p:nvCxnSpPr>
        <p:spPr>
          <a:xfrm>
            <a:off x="6858000" y="5614560"/>
            <a:ext cx="6292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6" name="TextBox 6"/>
          <p:cNvSpPr/>
          <p:nvPr/>
        </p:nvSpPr>
        <p:spPr>
          <a:xfrm>
            <a:off x="7514640" y="5248440"/>
            <a:ext cx="12628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CaCl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Properties of Ionic Compound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1001880" y="11426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chemical formula for an ionic compound is called a formula unit which represents the lowest who number ration of atoms in that compound ( ex. NaCl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st ionic compounds are crystalline solids at room temperatur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onic compounds generally have very high melting point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onic compounds can conduct electricity when molten or dissolved in water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49" name="Picture 2" descr="http://t3.gstatic.com/images?q=tbn:ANd9GcRsoS4zesRNnVuemY2Q7uBVgKuiRRBY_IbAv4b-s9eCbAxUYbSiWw"/>
          <p:cNvPicPr/>
          <p:nvPr/>
        </p:nvPicPr>
        <p:blipFill>
          <a:blip r:embed="rId1"/>
          <a:stretch/>
        </p:blipFill>
        <p:spPr>
          <a:xfrm>
            <a:off x="5334120" y="3873600"/>
            <a:ext cx="2590560" cy="2770200"/>
          </a:xfrm>
          <a:prstGeom prst="rect">
            <a:avLst/>
          </a:prstGeom>
          <a:ln w="0">
            <a:noFill/>
          </a:ln>
        </p:spPr>
      </p:pic>
      <p:sp>
        <p:nvSpPr>
          <p:cNvPr id="450" name="TextBox 3"/>
          <p:cNvSpPr/>
          <p:nvPr/>
        </p:nvSpPr>
        <p:spPr>
          <a:xfrm>
            <a:off x="685800" y="4419720"/>
            <a:ext cx="4202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Coordination Number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= The number of ions of opposite charge surrounding  the ion in a crys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3"/>
          <p:cNvSpPr/>
          <p:nvPr/>
        </p:nvSpPr>
        <p:spPr>
          <a:xfrm>
            <a:off x="5105520" y="2344680"/>
            <a:ext cx="3627360" cy="375120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438280" y="380880"/>
            <a:ext cx="4175280" cy="9446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Metallic Bonding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228600" y="1371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ositive metal ions floating in a sea of electrons.</a:t>
            </a: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54" name="Picture 2" descr="http://geology10.gomyclass.com/files/lecture2/html/images/slides/slide38.jpg"/>
          <p:cNvPicPr/>
          <p:nvPr/>
        </p:nvPicPr>
        <p:blipFill>
          <a:blip r:embed="rId1"/>
          <a:srcRect l="52619" t="28252" r="0" b="7307"/>
          <a:stretch/>
        </p:blipFill>
        <p:spPr>
          <a:xfrm>
            <a:off x="5181480" y="2449440"/>
            <a:ext cx="3475080" cy="3544920"/>
          </a:xfrm>
          <a:prstGeom prst="rect">
            <a:avLst/>
          </a:prstGeom>
          <a:ln w="0">
            <a:noFill/>
          </a:ln>
        </p:spPr>
      </p:pic>
      <p:sp>
        <p:nvSpPr>
          <p:cNvPr id="455" name="TextBox 4"/>
          <p:cNvSpPr/>
          <p:nvPr/>
        </p:nvSpPr>
        <p:spPr>
          <a:xfrm>
            <a:off x="174600" y="2421000"/>
            <a:ext cx="485460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tals are excellent conductors of electr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tals can be easily defor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They are malleable and ducti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Box 5"/>
          <p:cNvSpPr/>
          <p:nvPr/>
        </p:nvSpPr>
        <p:spPr>
          <a:xfrm>
            <a:off x="304920" y="4794120"/>
            <a:ext cx="426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that metals are arranged in crystalline structures, but do not worry about the arrangement of these structures:  face-centered, body-centered, hexag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7T15:15:10Z</dcterms:created>
  <dc:creator>udsd</dc:creator>
  <dc:description/>
  <dc:language>en-US</dc:language>
  <cp:lastModifiedBy>Dawn</cp:lastModifiedBy>
  <dcterms:modified xsi:type="dcterms:W3CDTF">2013-01-29T23:36:24Z</dcterms:modified>
  <cp:revision>27</cp:revision>
  <dc:subject/>
  <dc:title>Chapter 5</dc:title>
</cp:coreProperties>
</file>